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D1E-EBC8-4F50-9214-6704CCA0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09F-5B9A-4D8A-8E47-A3834557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F69-AED2-4E76-A36A-CDF43284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828-8C1B-46AB-B063-4CE268B1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E91-6E80-4E8A-8D6D-A952BB0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796-BD80-4D69-AFC8-F2B7085F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D0D-2CDB-4240-96E2-5D3D2527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154-0AB4-426B-9043-A1AC832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FEC-669A-41DA-803B-2ED20EFE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ADF-DF74-45A1-BC66-CE68C99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210-2172-4D27-8C18-3DA3A84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70A-657F-4FC3-A6EB-8374FC1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22BD-DC93-4A82-84E3-602A186D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o la tecnología contribuye en lo industrial al mejoramiento de vida?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er. Parcial Leer y Escribir en el Laberinto Tecn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los nuevos procesos de producción se ha disminuido la distancia entre los conocimientos científicos y su explotación comerc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402732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roducción que se diversifica y se sobrepone a los obstáculos técnicos para estar en condiciones de responder a la nueva y exigente deman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64240" y="3284640"/>
            <a:ext cx="3794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evos conocimientos, Mas Camb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constantes los nuevos conocimientos para la producción de nuevos avances y descubrimientos. Los cambios producen más cambios y además se acelera la generación de tecnología adaptada a la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 es todo "el conjunto de conocimientos propios de los oficios mecánicos y artes industriales". Las grandes fábricas modernas, con sus complicados mecanismos y los procedimientos industriales que en ellas se desarrollan, son el exponente del progreso tecnológico.  (http://www.url.edu.gt/PortalURL/Archivos/83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est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ecnología se ha desarrollado maravillosamente y ha permitido que seamos más longevos, se mejoren los sistemas de salud y que hayan avanzado los métodos de producción y distribución de  cosechas, ropa, servicios etc. La tecnología también ha contribuido al desarrollo de nuevas técnicas de fabricación y ha hecho que las comunicaciones y el transporte sean más rápidos y efic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1:10Z</dcterms:created>
  <dc:creator>dpenaranda</dc:creator>
  <dc:description/>
  <dc:language>en-US</dc:language>
  <cp:lastModifiedBy>dpenaranda</cp:lastModifiedBy>
  <dcterms:modified xsi:type="dcterms:W3CDTF">2011-02-27T15:40:16Z</dcterms:modified>
  <cp:revision>2</cp:revision>
  <dc:subject/>
  <dc:title>   “Como la tecnología contribuye en lo industrial al mejoramiento de vida?”.  </dc:title>
</cp:coreProperties>
</file>